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73724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73724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73724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73724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73724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73724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73724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73724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73724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62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pter 10</a:t>
            </a:r>
            <a:br>
              <a:rPr sz="32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TRIUMPH OF WHITE MEN’S DEMOCRAC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vin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ee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edricks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lliam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338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Election of 1824 and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. Q. Adams’s Administr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lection of 1824 a five-way 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appealed to slaveholders and rural people opposed to Clay’s economic nation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got plurality of popular and electoral vote, but not a maj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s won in House of Representatives with Henry Clay’s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Election of 1824 and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J. Q. Adams’s Administr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y’s appointment as Secretary of State led to charges of a “corrupt bargain” between Clay and Ad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ams rejected anti-economic nationalism sentiment in his poli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-term election of 1826 gave Jackson forces control of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iff became key issue and logrolling produced “Tariff of Abominations” in 182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Election of 1824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rcRect l="0" t="13805" r="0" b="0"/>
          <a:stretch/>
        </p:blipFill>
        <p:spPr>
          <a:xfrm>
            <a:off x="533520" y="2443320"/>
            <a:ext cx="807696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ackson Comes to Pow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upt Bargain” set motivation for 1828 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luential state leaders supported Jack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houn in South Carolina, Van Buren in New Y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ir efforts led to formation of Democratic party, first modern American pa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electioneering techniques of mass democracy bo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des, picnics, public ralli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ackson Comes to Pow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paign dominated by personal attacks and mudsling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ksonians won by portraying Jackson as authentic man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kson unclear about his stands on policy issues of the day other than Indian rem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kson’s democratic stamp on his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ended “spoils system” as democra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d most of cabinet because of Peggy Eaton aff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5594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dian Remov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n removal policy inherited from prior administ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kson agreed with state complaints that federal government had not removed Indians quickly 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outhern states asserted authority over Indians in their bor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kson got federal government approval for state removal initiatives with Indian Removal Act of 18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38—U.S. Army forced Cherokee west along the Trail of T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dian Remov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59436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ullification Cri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opposed tariff because it increased prices for manufactured goods and endangered their access to foreig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ake of 1828 Tariff, John C. Calhoun anonymously spelled out Doctrine of Nullification—right of an individual state to set aside stat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relations between Jackson and Calhoun sou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30—Jefferson Day Din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ckson “to the union—it must be preserve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houn “to the union—next to our liberty, the most dea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Nullification Crisi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32—tariff passed, South Carolina null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kson threatened to send arm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ce Bill authorized Jackson to use military to enforce federal l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y’s Compromise Tariff of 1833 lowered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llification foreshadowed state sovereignty positions of the South in slavery deb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mocracy in Theory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nd Practi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cy became preferred description of American politics in 1820s and 183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mocracy, the people were sovereign and could do no w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itional ideas of deference declined fur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ality of opportunity all important; the resulting inequalities of reward not really consid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 became society of winners and lo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Bank War and the Second Party Syste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ank War” a symbolic defense of Jacksonian concept of democ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d to two important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ation of opposition party to Jackson— the Whi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disrup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r. Biddle’s Ban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 of the United States unpopular, blamed in South and West for 1819 D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23 Biddle took over and restored confid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ffersonians opposed bank on principle as unconstitutional and preserve of corrupt special privile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 possessed great power and privilege with no public account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Bank Veto and the Election of 1832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vaguely threatened bank in first te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advice of Clay, Biddle sought new charter four years early in 183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passed, but Jackson veto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imed the bank was unconstitu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ded veto as a blow for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ian victory in 1832 spelled bank’s d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Election of 1832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13228" r="0" b="0"/>
          <a:stretch/>
        </p:blipFill>
        <p:spPr>
          <a:xfrm>
            <a:off x="457200" y="2133720"/>
            <a:ext cx="8229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illing the Ban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kson destroyed bank by removing federal depos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s transferred to state (“pet”) bank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ddle used his powers to cause recession, attempted to blame Jack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y got censure of Jackson through Senate for abusing his power (Jackson’s withdrawal of deposits from ban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uction of bank provoked fears of dictatorship, cost Jackson support in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Emergence of the Whig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g party a coalition of forces, first united in censure of Jack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y and National Republic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ster and New England ex-Federal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s-rights souther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ti-Masonic par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igs defended activist government in economics, enforcement of “decenc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s opposed government regulation of mor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s weakened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ection of Loco-Focos faction upset over pet ba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e Circular led to the Panic of 18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Rise and Fall of Van Bure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tin Van Buren Jackson’s handpicked succes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g strategy in 1836 was to run four candidates and force election to House of Representatives; it fai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 began with Panic of 18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ic caused more by complex changes in global economy than Jackson’s fiscal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Rise and Fall of Van Bure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issez-faire philosophy prevented Van Buren from helping to solve the problems of economic dist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n Buren attempted to save government funds with independent sub-treasu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gs blocked sub-treasuries until 184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Election of 1836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4560" r="0" b="0"/>
          <a:stretch/>
        </p:blipFill>
        <p:spPr>
          <a:xfrm>
            <a:off x="533520" y="2209680"/>
            <a:ext cx="8076960" cy="39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Rise and Fall of Van Bure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gs fully organized by 184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g candidate William Henry Harri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built of a common man who had been born in a log ca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ning mate John Tyler chosen to attract votes from states-rights Democr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rison and Tyler beat Van Buren because their revival of the American system seemed like a good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mocracy and Socie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galitarian expectations despite growing economic inequal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 distinctive domestic servant cla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 class distinctions in dres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conomic gap widened between propertied and labor classes; this was overlooked because legal equality of all white men still radical by European standard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galitarian attack on licensed professions like medicin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opular press was the source of information and opin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5715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eyday of the Second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arty Syste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of 1840 marked rise of permanent two-party system in the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gs and Democrats evenly divided the electorate for next two dec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es offered voters a clear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gs supported a “positive liberal state”:  government should support and protect industries that help economic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s supported “negative liberal state”: government should not interfere in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eyday of the Second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arty System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ialists, merchants, successful farmers, more likely Protesta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 farmers, manufacturing, more likely Catho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cqueville’s Wisdom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exis de Tocqueville praised most aspects of American democra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ned of future disaster if white males refused to extend liberty to women, African Americans, and Ind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mocratic Cul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ists’ audience was broad citizenry of democracy, not refined e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manticism in America appealed to feelings and intuitions of ordinary Ame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 literature sensation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res included Gothic horror and romantic f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ch popular literature written by and for wome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lodrama dominated popular the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mocratic Cul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830s, subject of paintings switched from great events and people to scenes from everyday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tectural style reflected the tenets of ancient Greek democ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rpose of art in democratic society was to encourage virtue and proper senti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dscape painters believed representations of untamed nature would elevate popular taste and convey moral tr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a few truly avant-garde, romantic artists, like Edgar Allan Po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mocratic Political Institutions: Politics of Universal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le Suffrage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77320" cy="563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st states adopted universal white male suffrage by the 1820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appointed offices made elec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fessional politicians and stable, statewide party organizations emerg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liticians like Martin Van Buren promoted benefits of two-party syst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cept of loyal opposition accep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cracy spread to presid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st presidential electors chosen by popular vote rather state legislature by 182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cipation rates rose from 27% in early 1820s to high of 78% in 18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nomic Issu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 in government economic policy intensified after 18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activity and debate around economic issues foreshadowed rise of parties based around economic progra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 ideology from Revolution made people suspicious of groups they did not identify with or benefit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ksonians fear of “the money pow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ate over role of federal government in the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abor Radicalism and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qual Right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rking men’s parties and trade unions emerged in the 1820s and 1830s to protect equal rights that appeared to be eroding because of low wag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advocated public education reform, a ten-hour workday, an end to debtors’ prisons, and hard currenc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y made some gains but were set back by the Depression of 183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women’s rights movement and abolitionists made little progr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Jackson and the Politic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f Democrac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ckson became a symbol of democracy’s trium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ons of Jackson and his part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-fashioned national politics in a democratic m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a known as Jacksonian Democ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20:07:00Z</dcterms:created>
  <dc:creator>CMU</dc:creator>
  <dc:description/>
  <cp:keywords/>
  <dc:language>en-US</dc:language>
  <cp:lastModifiedBy>Teresa Ward User</cp:lastModifiedBy>
  <cp:lastPrinted>2009-09-06T19:32:19Z</cp:lastPrinted>
  <dcterms:modified xsi:type="dcterms:W3CDTF">2006-11-09T16:08:10Z</dcterms:modified>
  <cp:revision>34</cp:revision>
  <dc:subject/>
  <dc:title>CHAPTER 10 THE TRIUMPH OF WHITE MEN'S DEMOCRACY</dc:title>
</cp:coreProperties>
</file>